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7.png" ContentType="image/png"/>
  <Override PartName="/ppt/media/image15.wmf" ContentType="image/x-wmf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10.wmf" ContentType="image/x-wmf"/>
  <Override PartName="/ppt/media/image2.png" ContentType="image/png"/>
  <Override PartName="/ppt/media/image16.wmf" ContentType="image/x-wmf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2008-09AA-4ACE-BE5F-20C543DDF8F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27CD-0F77-4176-8583-2BF3B29C4E7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587D-D856-480C-BF88-EAE7335039A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93FB-764D-4B11-A17F-6714E1A9A7B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DEB8-BA32-4FA4-A75A-9D1D280A138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F641-603E-438C-A65F-FE2C4122322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1692-9C7A-4B70-9B6E-BA37EEACC14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rashing: Gründe für das Fehlschlagen werden verges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Konflikte: erst hier unten wird erkannt, daß bei A=B die ersten beiden Constraints nicht erfüllt werden kön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Thrashing: Das gilt natürlich für jede Belegung von C.  Es ist also völlig unnötig C mit 2 zu bele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die gleichen Constraint-Checks werden wiederh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5E59-6AB4-4930-9A44-0907B2D147E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1150-EAF6-4AA7-9643-30C171A8C3C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AEC6-9787-41DF-BD69-5DEBE4931A3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4F41-279D-4361-BBC3-102AEB6CAF8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C0D2-C055-428F-AB8B-ECAF6387B14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06EF-4895-42CE-8659-D21D8F16578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C443-A5B8-4972-881A-BC3EB43074F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D8EC-4748-4A80-A80D-C9C3BFCC2E1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7465-CE28-48DD-A604-6C2EBD7856D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1EA4-E4E1-418E-B086-856A1F63482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DB58-4346-4B28-819A-96D2CAEEF18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600C-2C01-41F8-A424-F0C266B39B2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EBCF-95DD-4A95-AD10-AC74F1AF7E8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95B6-6F1D-4028-8C3E-FB0E913FB02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AB54-7FBC-4C5B-982C-EF68CEEB179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671A-5D61-4C8B-BEE0-9921FC09EA9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04A7-057A-4753-87E7-10DFAEE532C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D794-1905-451F-8BC0-03B225DA642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4117-2EB6-4F2B-992F-9AB3FA24A48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sp: partial constraint satisfaction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2861-9663-4D52-B8B7-DF0398A263B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5512-E045-4B37-9AFD-34A7704C194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194C-2875-49F9-AF95-C48139F40B5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BBB0-5963-4324-8B92-418E73547DE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FB9E-63BA-4075-8DFC-BA52D9ECCF1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9122-30CC-4BA1-9162-D7291FC8CF8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47A4-8692-4BB0-AAD4-F1FCA02A67D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8989-E200-4FED-B353-B1064230131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BCB-75CB-4AC8-884C-58FE8685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CBC-8B12-4758-9014-A80ED99F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D9E-F8F9-472A-9987-B4EAC732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DDE-C93E-4D7E-9119-57294E7C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8B92-57C7-4E7D-8B55-8D557671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6A98-4320-444A-9C8C-AA186AD0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9363-0823-4935-9F17-E657CB0E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ED72-8BC7-45DA-A959-F4D05252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37AB-DFCD-4AB2-BA6B-5231E6B6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1811-7392-4B1A-9E92-A7A257F4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FCEB-97FF-4059-8068-E077E5D5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518E-D8CE-491A-B61D-D81CC233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F47A-2C3A-48DC-AB99-8F702D28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EEAB-C526-4029-A8E3-0A6C9469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C941-DBBD-4B83-BB03-42D264C5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1DCC-837D-4988-B948-D9924FCF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5C25-4F61-49F9-B096-717E430E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8E7-32CE-4599-B816-12DCAD0D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25CF-942F-4981-B35F-666BDD2D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D25A-8C96-474E-99CA-2CFD27AF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12A-DC9E-442F-B050-E55A632D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FB4-1539-44EA-ACDF-61E35027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A443-2C74-485C-8171-B0ACE256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E5F6-1FCC-4A62-A6F0-BFE423CC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44CB-5CD6-4073-922D-4F1EB80BF3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C89E-E45D-4B42-9855-DB338989BC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kti.mff.cuni.cz/~bartak/constraints" TargetMode="External"/><Relationship Id="rId2" Type="http://schemas.openxmlformats.org/officeDocument/2006/relationships/hyperlink" Target="http://www.cylo.org/games_6.as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Black"/>
              </a:rPr>
              <a:t>Teil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Constraintprogramm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Bild 5" descr="minesweeper.png"/>
          <p:cNvPicPr/>
          <p:nvPr/>
        </p:nvPicPr>
        <p:blipFill>
          <a:blip r:embed="rId1"/>
          <a:stretch/>
        </p:blipFill>
        <p:spPr>
          <a:xfrm>
            <a:off x="585720" y="1494000"/>
            <a:ext cx="5602320" cy="3243240"/>
          </a:xfrm>
          <a:prstGeom prst="rect">
            <a:avLst/>
          </a:prstGeom>
          <a:ln w="0">
            <a:noFill/>
          </a:ln>
        </p:spPr>
      </p:pic>
      <p:pic>
        <p:nvPicPr>
          <p:cNvPr id="99" name="Bild 6" descr="minesweeper(misel).png"/>
          <p:cNvPicPr/>
          <p:nvPr/>
        </p:nvPicPr>
        <p:blipFill>
          <a:blip r:embed="rId2"/>
          <a:stretch/>
        </p:blipFill>
        <p:spPr>
          <a:xfrm>
            <a:off x="4267080" y="152280"/>
            <a:ext cx="3202200" cy="3581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1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udok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371600"/>
            <a:ext cx="8640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 (Problemformulier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 belegende Variablen bilden ein 9x9-Array: n(i,j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ede Variable kann Wert zwischen 1 und 9 annehmen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(i,j)::{1,2,3,4,5,6,7,8,9}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r Spalte verschieden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j ≠ k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i,j) ≠ n(i,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r Zeile verschiede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j ≠ k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j,i) ≠ n(k,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 Zahlen in einem Teilquadrat verschieden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 div 3 = i div 3, j div 3 = k div 3, (h ≠ i oder j ≠ k)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(h,j) ≠ n(i,k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Bild 5" descr="sudoku.jpg"/>
          <p:cNvPicPr/>
          <p:nvPr/>
        </p:nvPicPr>
        <p:blipFill>
          <a:blip r:embed="rId1"/>
          <a:stretch/>
        </p:blipFill>
        <p:spPr>
          <a:xfrm>
            <a:off x="6324480" y="3200400"/>
            <a:ext cx="2389320" cy="236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urzer Überblick über C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Problem der realen Welt wird mittels           Constraintprogrammierung beschri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che einer Instanz (labe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tels der bekannten Techniken der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pagierung (domain filte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konsistenzen werden im Voraus entfer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stematische Su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suchung des gesamten Lösungsra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llständig und korr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ffizienzprobleme (sehr aufwend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undlegende Techni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n &amp; Testen (G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cktracking (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3591000" y="5151600"/>
            <a:ext cx="2774880" cy="641160"/>
          </a:xfrm>
          <a:prstGeom prst="wedgeRoundRectCallout">
            <a:avLst>
              <a:gd name="adj1" fmla="val 53486"/>
              <a:gd name="adj2" fmla="val 87375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acht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zelne Beleg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72768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7008840" y="55864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7289640" y="55864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757224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7853400" y="558648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663084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6912000" y="5691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7192800" y="5691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747540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7756560" y="569124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653256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681372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7"/>
          <p:cNvSpPr/>
          <p:nvPr/>
        </p:nvSpPr>
        <p:spPr>
          <a:xfrm>
            <a:off x="7095960" y="57913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8"/>
          <p:cNvSpPr/>
          <p:nvPr/>
        </p:nvSpPr>
        <p:spPr>
          <a:xfrm>
            <a:off x="7377120" y="57913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9"/>
          <p:cNvSpPr/>
          <p:nvPr/>
        </p:nvSpPr>
        <p:spPr>
          <a:xfrm>
            <a:off x="7658280" y="5791320"/>
            <a:ext cx="33336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0"/>
          <p:cNvSpPr/>
          <p:nvPr/>
        </p:nvSpPr>
        <p:spPr>
          <a:xfrm>
            <a:off x="672768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1"/>
          <p:cNvSpPr/>
          <p:nvPr/>
        </p:nvSpPr>
        <p:spPr>
          <a:xfrm>
            <a:off x="7008840" y="529416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22"/>
          <p:cNvSpPr/>
          <p:nvPr/>
        </p:nvSpPr>
        <p:spPr>
          <a:xfrm>
            <a:off x="7289640" y="529416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23"/>
          <p:cNvSpPr/>
          <p:nvPr/>
        </p:nvSpPr>
        <p:spPr>
          <a:xfrm>
            <a:off x="757224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4"/>
          <p:cNvSpPr/>
          <p:nvPr/>
        </p:nvSpPr>
        <p:spPr>
          <a:xfrm>
            <a:off x="7853400" y="529416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25"/>
          <p:cNvSpPr/>
          <p:nvPr/>
        </p:nvSpPr>
        <p:spPr>
          <a:xfrm>
            <a:off x="663084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6"/>
          <p:cNvSpPr/>
          <p:nvPr/>
        </p:nvSpPr>
        <p:spPr>
          <a:xfrm>
            <a:off x="6912000" y="54151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27"/>
          <p:cNvSpPr/>
          <p:nvPr/>
        </p:nvSpPr>
        <p:spPr>
          <a:xfrm>
            <a:off x="7192800" y="54151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8"/>
          <p:cNvSpPr/>
          <p:nvPr/>
        </p:nvSpPr>
        <p:spPr>
          <a:xfrm>
            <a:off x="747540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29"/>
          <p:cNvSpPr/>
          <p:nvPr/>
        </p:nvSpPr>
        <p:spPr>
          <a:xfrm>
            <a:off x="7756560" y="541512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30"/>
          <p:cNvSpPr/>
          <p:nvPr/>
        </p:nvSpPr>
        <p:spPr>
          <a:xfrm>
            <a:off x="653256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1"/>
          <p:cNvSpPr/>
          <p:nvPr/>
        </p:nvSpPr>
        <p:spPr>
          <a:xfrm>
            <a:off x="681372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32"/>
          <p:cNvSpPr/>
          <p:nvPr/>
        </p:nvSpPr>
        <p:spPr>
          <a:xfrm>
            <a:off x="7095960" y="55148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3"/>
          <p:cNvSpPr/>
          <p:nvPr/>
        </p:nvSpPr>
        <p:spPr>
          <a:xfrm>
            <a:off x="7377120" y="55148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34"/>
          <p:cNvSpPr/>
          <p:nvPr/>
        </p:nvSpPr>
        <p:spPr>
          <a:xfrm>
            <a:off x="7658280" y="551484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35"/>
          <p:cNvSpPr/>
          <p:nvPr/>
        </p:nvSpPr>
        <p:spPr>
          <a:xfrm>
            <a:off x="672768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36"/>
          <p:cNvSpPr/>
          <p:nvPr/>
        </p:nvSpPr>
        <p:spPr>
          <a:xfrm>
            <a:off x="7008840" y="502776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37"/>
          <p:cNvSpPr/>
          <p:nvPr/>
        </p:nvSpPr>
        <p:spPr>
          <a:xfrm>
            <a:off x="7289640" y="502776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38"/>
          <p:cNvSpPr/>
          <p:nvPr/>
        </p:nvSpPr>
        <p:spPr>
          <a:xfrm>
            <a:off x="757224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9"/>
          <p:cNvSpPr/>
          <p:nvPr/>
        </p:nvSpPr>
        <p:spPr>
          <a:xfrm>
            <a:off x="7853400" y="502776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663084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1"/>
          <p:cNvSpPr/>
          <p:nvPr/>
        </p:nvSpPr>
        <p:spPr>
          <a:xfrm>
            <a:off x="6912000" y="51325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2"/>
          <p:cNvSpPr/>
          <p:nvPr/>
        </p:nvSpPr>
        <p:spPr>
          <a:xfrm>
            <a:off x="7192800" y="5132520"/>
            <a:ext cx="33336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3"/>
          <p:cNvSpPr/>
          <p:nvPr/>
        </p:nvSpPr>
        <p:spPr>
          <a:xfrm>
            <a:off x="747540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44"/>
          <p:cNvSpPr/>
          <p:nvPr/>
        </p:nvSpPr>
        <p:spPr>
          <a:xfrm>
            <a:off x="7756560" y="5132520"/>
            <a:ext cx="331920" cy="32832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5"/>
          <p:cNvSpPr/>
          <p:nvPr/>
        </p:nvSpPr>
        <p:spPr>
          <a:xfrm>
            <a:off x="653256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46"/>
          <p:cNvSpPr/>
          <p:nvPr/>
        </p:nvSpPr>
        <p:spPr>
          <a:xfrm>
            <a:off x="681372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47"/>
          <p:cNvSpPr/>
          <p:nvPr/>
        </p:nvSpPr>
        <p:spPr>
          <a:xfrm>
            <a:off x="7095960" y="5232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48"/>
          <p:cNvSpPr/>
          <p:nvPr/>
        </p:nvSpPr>
        <p:spPr>
          <a:xfrm>
            <a:off x="7377120" y="52322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9"/>
          <p:cNvSpPr/>
          <p:nvPr/>
        </p:nvSpPr>
        <p:spPr>
          <a:xfrm>
            <a:off x="7658280" y="523224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50"/>
          <p:cNvSpPr/>
          <p:nvPr/>
        </p:nvSpPr>
        <p:spPr>
          <a:xfrm>
            <a:off x="672768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51"/>
          <p:cNvSpPr/>
          <p:nvPr/>
        </p:nvSpPr>
        <p:spPr>
          <a:xfrm>
            <a:off x="7008840" y="47512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52"/>
          <p:cNvSpPr/>
          <p:nvPr/>
        </p:nvSpPr>
        <p:spPr>
          <a:xfrm>
            <a:off x="7289640" y="475128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3"/>
          <p:cNvSpPr/>
          <p:nvPr/>
        </p:nvSpPr>
        <p:spPr>
          <a:xfrm>
            <a:off x="757224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4"/>
          <p:cNvSpPr/>
          <p:nvPr/>
        </p:nvSpPr>
        <p:spPr>
          <a:xfrm>
            <a:off x="7853400" y="475128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55"/>
          <p:cNvSpPr/>
          <p:nvPr/>
        </p:nvSpPr>
        <p:spPr>
          <a:xfrm>
            <a:off x="663084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56"/>
          <p:cNvSpPr/>
          <p:nvPr/>
        </p:nvSpPr>
        <p:spPr>
          <a:xfrm>
            <a:off x="6912000" y="48560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7"/>
          <p:cNvSpPr/>
          <p:nvPr/>
        </p:nvSpPr>
        <p:spPr>
          <a:xfrm>
            <a:off x="7192800" y="485604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58"/>
          <p:cNvSpPr/>
          <p:nvPr/>
        </p:nvSpPr>
        <p:spPr>
          <a:xfrm>
            <a:off x="747540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59"/>
          <p:cNvSpPr/>
          <p:nvPr/>
        </p:nvSpPr>
        <p:spPr>
          <a:xfrm>
            <a:off x="7756560" y="4856040"/>
            <a:ext cx="33192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60"/>
          <p:cNvSpPr/>
          <p:nvPr/>
        </p:nvSpPr>
        <p:spPr>
          <a:xfrm>
            <a:off x="653256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61"/>
          <p:cNvSpPr/>
          <p:nvPr/>
        </p:nvSpPr>
        <p:spPr>
          <a:xfrm>
            <a:off x="681372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62"/>
          <p:cNvSpPr/>
          <p:nvPr/>
        </p:nvSpPr>
        <p:spPr>
          <a:xfrm>
            <a:off x="7095960" y="495612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63"/>
          <p:cNvSpPr/>
          <p:nvPr/>
        </p:nvSpPr>
        <p:spPr>
          <a:xfrm>
            <a:off x="7377120" y="4956120"/>
            <a:ext cx="331920" cy="328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4"/>
          <p:cNvSpPr/>
          <p:nvPr/>
        </p:nvSpPr>
        <p:spPr>
          <a:xfrm>
            <a:off x="7658280" y="4956120"/>
            <a:ext cx="333360" cy="328680"/>
          </a:xfrm>
          <a:prstGeom prst="cube">
            <a:avLst>
              <a:gd name="adj" fmla="val 25000"/>
            </a:avLst>
          </a:prstGeom>
          <a:solidFill>
            <a:srgbClr val="9966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65"/>
          <p:cNvSpPr/>
          <p:nvPr/>
        </p:nvSpPr>
        <p:spPr>
          <a:xfrm>
            <a:off x="6489720" y="3448080"/>
            <a:ext cx="2427120" cy="641160"/>
          </a:xfrm>
          <a:prstGeom prst="wedgeRoundRectCallout">
            <a:avLst>
              <a:gd name="adj1" fmla="val 13407"/>
              <a:gd name="adj2" fmla="val 146287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achte Unterrä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66"/>
          <p:cNvSpPr/>
          <p:nvPr/>
        </p:nvSpPr>
        <p:spPr>
          <a:xfrm>
            <a:off x="8112240" y="6362640"/>
            <a:ext cx="287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7"/>
          <p:cNvSpPr/>
          <p:nvPr/>
        </p:nvSpPr>
        <p:spPr>
          <a:xfrm flipV="1">
            <a:off x="8399520" y="6025680"/>
            <a:ext cx="0" cy="336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8"/>
          <p:cNvSpPr/>
          <p:nvPr/>
        </p:nvSpPr>
        <p:spPr>
          <a:xfrm flipV="1">
            <a:off x="8405640" y="6134040"/>
            <a:ext cx="19872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9"/>
          <p:cNvSpPr/>
          <p:nvPr/>
        </p:nvSpPr>
        <p:spPr>
          <a:xfrm>
            <a:off x="8066160" y="63500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0"/>
          <p:cNvSpPr/>
          <p:nvPr/>
        </p:nvSpPr>
        <p:spPr>
          <a:xfrm>
            <a:off x="8353440" y="581976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1"/>
          <p:cNvSpPr/>
          <p:nvPr/>
        </p:nvSpPr>
        <p:spPr>
          <a:xfrm>
            <a:off x="8493120" y="620712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schöpfende Such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94920" y="1052640"/>
            <a:ext cx="817884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neriere und Teste (G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zeuge systematisch einen Lösungskandi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e, ob alle Constraints erfüllt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spiel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X = Y, X </a:t>
            </a:r>
            <a:r>
              <a:rPr b="0" lang="de-CH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exhaustive_search"/>
          <p:cNvPicPr/>
          <p:nvPr/>
        </p:nvPicPr>
        <p:blipFill>
          <a:blip r:embed="rId1"/>
          <a:stretch/>
        </p:blipFill>
        <p:spPr>
          <a:xfrm>
            <a:off x="1763640" y="3933720"/>
            <a:ext cx="7042320" cy="13654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188640" y="4940280"/>
            <a:ext cx="915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roble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er Generator ist „blind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eneriere Lösungskandidaten intelli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Probleme (Inkonsistenzen) werden zu spät erk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este Constraints bei Instanziierung der beteiligten Variab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acktracking (B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94920" y="1412640"/>
            <a:ext cx="81788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weitert eine Teillösung inkrementell zu einer vollständigen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gorith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se einer Variablen einen Wert 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e auf Konsis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ederhole, bis alle Variablen belegt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iefensuche (komplexe Rücksetz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te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ra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nötige Wiederholungen (Redunda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flikte werden spät erkan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6829560" y="2247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6464160" y="24256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6494400" y="402912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6404040" y="322740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865920" y="26989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865920" y="35035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6865920" y="43099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8385120" y="51307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325000" y="348624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7213680" y="512136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5940360" y="5950080"/>
            <a:ext cx="3017880" cy="3682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= D, B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, A+C &lt;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7"/>
          <p:cNvSpPr/>
          <p:nvPr/>
        </p:nvSpPr>
        <p:spPr>
          <a:xfrm>
            <a:off x="6829560" y="304488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8"/>
          <p:cNvSpPr/>
          <p:nvPr/>
        </p:nvSpPr>
        <p:spPr>
          <a:xfrm>
            <a:off x="6829560" y="384192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9"/>
          <p:cNvSpPr/>
          <p:nvPr/>
        </p:nvSpPr>
        <p:spPr>
          <a:xfrm>
            <a:off x="6919920" y="4635360"/>
            <a:ext cx="257040" cy="7081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8358120" y="384336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1"/>
          <p:cNvSpPr/>
          <p:nvPr/>
        </p:nvSpPr>
        <p:spPr>
          <a:xfrm>
            <a:off x="6921360" y="3835440"/>
            <a:ext cx="623880" cy="727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6865920" y="51325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7564320" y="430200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6829560" y="464040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5"/>
          <p:cNvSpPr/>
          <p:nvPr/>
        </p:nvSpPr>
        <p:spPr>
          <a:xfrm>
            <a:off x="8348760" y="4641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8448840" y="535788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6494400" y="483228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7896240" y="5116680"/>
            <a:ext cx="1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29"/>
          <p:cNvSpPr/>
          <p:nvPr/>
        </p:nvSpPr>
        <p:spPr>
          <a:xfrm>
            <a:off x="7620120" y="4640400"/>
            <a:ext cx="231480" cy="6886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0"/>
          <p:cNvSpPr/>
          <p:nvPr/>
        </p:nvSpPr>
        <p:spPr>
          <a:xfrm>
            <a:off x="7566120" y="513396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31"/>
          <p:cNvSpPr/>
          <p:nvPr/>
        </p:nvSpPr>
        <p:spPr>
          <a:xfrm>
            <a:off x="6927840" y="3051000"/>
            <a:ext cx="1387440" cy="689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2"/>
          <p:cNvSpPr/>
          <p:nvPr/>
        </p:nvSpPr>
        <p:spPr>
          <a:xfrm>
            <a:off x="8389800" y="43387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33"/>
          <p:cNvSpPr/>
          <p:nvPr/>
        </p:nvSpPr>
        <p:spPr>
          <a:xfrm>
            <a:off x="7553160" y="4641840"/>
            <a:ext cx="0" cy="7063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4"/>
          <p:cNvSpPr/>
          <p:nvPr/>
        </p:nvSpPr>
        <p:spPr>
          <a:xfrm flipV="1">
            <a:off x="2565360" y="4838760"/>
            <a:ext cx="482436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35"/>
          <p:cNvSpPr/>
          <p:nvPr/>
        </p:nvSpPr>
        <p:spPr>
          <a:xfrm flipV="1">
            <a:off x="5364000" y="5444640"/>
            <a:ext cx="1822680" cy="5050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Nach rechts gekrümmter Pfeil 36"/>
          <p:cNvSpPr/>
          <p:nvPr/>
        </p:nvSpPr>
        <p:spPr>
          <a:xfrm flipV="1">
            <a:off x="380880" y="2666160"/>
            <a:ext cx="457200" cy="1181160"/>
          </a:xfrm>
          <a:custGeom>
            <a:avLst/>
            <a:gdLst>
              <a:gd name="textAreaLeft" fmla="*/ 61200 w 457200"/>
              <a:gd name="textAreaRight" fmla="*/ 396000 w 457200"/>
              <a:gd name="textAreaTop" fmla="*/ 221040 h 1181160"/>
              <a:gd name="textAreaBottom" fmla="*/ 777240 h 118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83" stAng="-5400000" swAng="-5400000"/>
                <a:lnTo>
                  <a:pt x="0" y="10173"/>
                </a:lnTo>
                <a:arcTo wR="21600" hR="8083" stAng="10800000" swAng="-3323610"/>
                <a:lnTo>
                  <a:pt x="16200" y="21343"/>
                </a:lnTo>
                <a:lnTo>
                  <a:pt x="21600" y="17210"/>
                </a:lnTo>
                <a:lnTo>
                  <a:pt x="16200" y="12563"/>
                </a:lnTo>
                <a:lnTo>
                  <a:pt x="16200" y="15908"/>
                </a:lnTo>
                <a:arcTo wR="21600" hR="8083" stAng="7476390" swAng="3156018"/>
                <a:lnTo>
                  <a:pt x="181" y="9128"/>
                </a:lnTo>
                <a:arcTo wR="21600" hR="8083" stAng="-10632408" swAng="5232408"/>
                <a:close/>
              </a:path>
              <a:path fill="darkenLess" w="21600" h="21600">
                <a:moveTo>
                  <a:pt x="21600" y="0"/>
                </a:moveTo>
                <a:arcTo wR="21600" hR="8083" stAng="-5400000" swAng="-5400000"/>
                <a:lnTo>
                  <a:pt x="0" y="8083"/>
                </a:lnTo>
                <a:arcTo wR="21600" hR="8083" stAng="10800000" swAng="-167592"/>
                <a:lnTo>
                  <a:pt x="181" y="9128"/>
                </a:lnTo>
                <a:arcTo wR="21600" hR="8083" stAng="-10632408" swAng="5232408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GT &amp; BT - </a:t>
            </a: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 &amp; Test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Back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698480" y="3357720"/>
          <a:ext cx="327348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8480" y="3357720"/>
                    <a:ext cx="327348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351400" y="3317760"/>
          <a:ext cx="3274920" cy="177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1400" y="3317760"/>
                    <a:ext cx="327492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8472600" y="5411880"/>
            <a:ext cx="3553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2"/>
          <p:cNvSpPr/>
          <p:nvPr/>
        </p:nvSpPr>
        <p:spPr>
          <a:xfrm>
            <a:off x="7683480" y="4287960"/>
            <a:ext cx="712800" cy="639720"/>
          </a:xfrm>
          <a:prstGeom prst="ellipse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Konsistenztechnik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8360" y="1371240"/>
            <a:ext cx="81676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fernen inkonsistenter Werte aus den Domänen der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ierung eines CSPs als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binäre und unäre Constraint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n-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 Constraints sin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kein Problem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noten =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n =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notenkonsistenz (NC) (node consist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nkonsistenz (AC) (arc consist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fadkonsistenz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starke) k-Konsist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7485120" y="4648320"/>
            <a:ext cx="576360" cy="4597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792840" y="6259680"/>
            <a:ext cx="57636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8418600" y="5756400"/>
            <a:ext cx="5760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8"/>
          <p:cNvSpPr/>
          <p:nvPr/>
        </p:nvSpPr>
        <p:spPr>
          <a:xfrm flipH="1">
            <a:off x="7076880" y="5108400"/>
            <a:ext cx="393480" cy="1149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9"/>
          <p:cNvSpPr/>
          <p:nvPr/>
        </p:nvSpPr>
        <p:spPr>
          <a:xfrm flipH="1">
            <a:off x="7365960" y="6224760"/>
            <a:ext cx="1046160" cy="279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8062920" y="5124600"/>
            <a:ext cx="650880" cy="6080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8290080" y="4073400"/>
            <a:ext cx="68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&gt;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6407280" y="517860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8344080" y="5084640"/>
            <a:ext cx="79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&lt;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7635960" y="63532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antenkonsistenz A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94920" y="1371600"/>
            <a:ext cx="82407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 = Kante im Constraint-Grap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te(i,j) ist kantenkonsistent gdw. es für jeden Wert in     einen kompatiblen Wert in     gibt. (gerichte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CSP ist kantenkonsistent gdw. es für alle Kanten kantenkonsistent ist (in beiden Richtung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498680" y="279720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475240" y="2824200"/>
                <a:ext cx="363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70" name="Picture 8" descr="enforcing_consistency3"/>
          <p:cNvPicPr/>
          <p:nvPr/>
        </p:nvPicPr>
        <p:blipFill>
          <a:blip r:embed="rId1"/>
          <a:stretch/>
        </p:blipFill>
        <p:spPr>
          <a:xfrm>
            <a:off x="6372360" y="4149720"/>
            <a:ext cx="1874880" cy="479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enforcing_consistency2"/>
          <p:cNvPicPr/>
          <p:nvPr/>
        </p:nvPicPr>
        <p:blipFill>
          <a:blip r:embed="rId2"/>
          <a:stretch/>
        </p:blipFill>
        <p:spPr>
          <a:xfrm>
            <a:off x="3708360" y="4149720"/>
            <a:ext cx="1908360" cy="503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enforcing_consistency1"/>
          <p:cNvPicPr/>
          <p:nvPr/>
        </p:nvPicPr>
        <p:blipFill>
          <a:blip r:embed="rId3"/>
          <a:stretch/>
        </p:blipFill>
        <p:spPr>
          <a:xfrm>
            <a:off x="971640" y="4149720"/>
            <a:ext cx="1908000" cy="5032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1"/>
          <p:cNvSpPr/>
          <p:nvPr/>
        </p:nvSpPr>
        <p:spPr>
          <a:xfrm>
            <a:off x="90000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468360" y="5243400"/>
            <a:ext cx="8251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reichen der Kantenkonsisten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schränkungen solange wiederholen bis sich ke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mänen mehr än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734040" y="4702320"/>
            <a:ext cx="809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nicht kantenkonsistent          (A,B) konsistent        (A,B) und (B,A) konsis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AC - Beispiel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3152880" y="2857680"/>
            <a:ext cx="13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703520" y="40766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086360" y="4967280"/>
            <a:ext cx="13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"/>
          <p:cNvSpPr/>
          <p:nvPr/>
        </p:nvSpPr>
        <p:spPr>
          <a:xfrm flipH="1">
            <a:off x="1941480" y="3201840"/>
            <a:ext cx="1287360" cy="903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8"/>
          <p:cNvSpPr/>
          <p:nvPr/>
        </p:nvSpPr>
        <p:spPr>
          <a:xfrm flipH="1">
            <a:off x="2773080" y="3284640"/>
            <a:ext cx="1274760" cy="853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3381480" y="3219480"/>
            <a:ext cx="1550880" cy="1793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4154400" y="3284640"/>
            <a:ext cx="1224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"/>
          <p:cNvSpPr/>
          <p:nvPr/>
        </p:nvSpPr>
        <p:spPr>
          <a:xfrm>
            <a:off x="2843280" y="4437000"/>
            <a:ext cx="1265040" cy="620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12"/>
          <p:cNvSpPr/>
          <p:nvPr/>
        </p:nvSpPr>
        <p:spPr>
          <a:xfrm>
            <a:off x="2925720" y="280836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13"/>
          <p:cNvSpPr/>
          <p:nvPr/>
        </p:nvSpPr>
        <p:spPr>
          <a:xfrm>
            <a:off x="1504800" y="401148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14"/>
          <p:cNvSpPr/>
          <p:nvPr/>
        </p:nvSpPr>
        <p:spPr>
          <a:xfrm>
            <a:off x="3782880" y="488484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7647120" y="2813040"/>
            <a:ext cx="7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6286680" y="39178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8021520" y="4808520"/>
            <a:ext cx="8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8"/>
          <p:cNvSpPr/>
          <p:nvPr/>
        </p:nvSpPr>
        <p:spPr>
          <a:xfrm flipH="1">
            <a:off x="6722640" y="3141720"/>
            <a:ext cx="1274760" cy="853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8104320" y="3141720"/>
            <a:ext cx="1206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0"/>
          <p:cNvSpPr/>
          <p:nvPr/>
        </p:nvSpPr>
        <p:spPr>
          <a:xfrm>
            <a:off x="6732720" y="4221000"/>
            <a:ext cx="1325520" cy="694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21"/>
          <p:cNvSpPr/>
          <p:nvPr/>
        </p:nvSpPr>
        <p:spPr>
          <a:xfrm>
            <a:off x="7870680" y="4694400"/>
            <a:ext cx="862200" cy="55692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22"/>
          <p:cNvSpPr/>
          <p:nvPr/>
        </p:nvSpPr>
        <p:spPr>
          <a:xfrm>
            <a:off x="6094440" y="3844800"/>
            <a:ext cx="86184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23"/>
          <p:cNvSpPr/>
          <p:nvPr/>
        </p:nvSpPr>
        <p:spPr>
          <a:xfrm>
            <a:off x="7512120" y="2717640"/>
            <a:ext cx="86040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24"/>
          <p:cNvSpPr/>
          <p:nvPr/>
        </p:nvSpPr>
        <p:spPr>
          <a:xfrm>
            <a:off x="4971960" y="3481560"/>
            <a:ext cx="970200" cy="788760"/>
          </a:xfrm>
          <a:prstGeom prst="pi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8628120" y="5132520"/>
            <a:ext cx="353880" cy="11667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27"/>
          <p:cNvSpPr/>
          <p:nvPr/>
        </p:nvSpPr>
        <p:spPr>
          <a:xfrm>
            <a:off x="4430880" y="26161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1616040" y="45259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5143680" y="53053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8155080" y="240336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6027840" y="430200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7677000" y="5084640"/>
            <a:ext cx="4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24000" y="5805360"/>
            <a:ext cx="882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C ist die am meisten verbreitete Konsistenztechni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viele Algorithmen mit unterschiedlichen Leistungsmerkm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st AC ausreichend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ere Domän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Inkonsistenz gefunden, keine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rdinalität aller Domänen ist 1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ösung gefu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172200" y="33004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4721400" y="45194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7105680" y="54100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"/>
          <p:cNvSpPr/>
          <p:nvPr/>
        </p:nvSpPr>
        <p:spPr>
          <a:xfrm flipH="1">
            <a:off x="4960800" y="3693960"/>
            <a:ext cx="2106720" cy="854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8"/>
          <p:cNvSpPr/>
          <p:nvPr/>
        </p:nvSpPr>
        <p:spPr>
          <a:xfrm flipH="1">
            <a:off x="5792760" y="3693960"/>
            <a:ext cx="501840" cy="887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6400800" y="3662280"/>
            <a:ext cx="1666800" cy="17557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7172280" y="3727440"/>
            <a:ext cx="122400" cy="1706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5867280" y="4869000"/>
            <a:ext cx="1260720" cy="63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2"/>
          <p:cNvSpPr/>
          <p:nvPr/>
        </p:nvSpPr>
        <p:spPr>
          <a:xfrm>
            <a:off x="5945040" y="3251160"/>
            <a:ext cx="162252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13"/>
          <p:cNvSpPr/>
          <p:nvPr/>
        </p:nvSpPr>
        <p:spPr>
          <a:xfrm>
            <a:off x="4524480" y="4454640"/>
            <a:ext cx="1620720" cy="55692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14"/>
          <p:cNvSpPr/>
          <p:nvPr/>
        </p:nvSpPr>
        <p:spPr>
          <a:xfrm>
            <a:off x="6802560" y="5327640"/>
            <a:ext cx="1622160" cy="557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6"/>
          <p:cNvSpPr/>
          <p:nvPr/>
        </p:nvSpPr>
        <p:spPr>
          <a:xfrm>
            <a:off x="4979880" y="4879800"/>
            <a:ext cx="2955960" cy="576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17760" y="3797280"/>
            <a:ext cx="797040" cy="18590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18"/>
          <p:cNvSpPr/>
          <p:nvPr/>
        </p:nvSpPr>
        <p:spPr>
          <a:xfrm>
            <a:off x="7189920" y="291132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4373640" y="48211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0"/>
          <p:cNvSpPr/>
          <p:nvPr/>
        </p:nvSpPr>
        <p:spPr>
          <a:xfrm>
            <a:off x="8310600" y="509256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orher: Organisatoris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ute 2 Vorlesungen – nächste Woche ke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Session: 325, SR 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lausur: letzter Vorlesungstermin (17. Ju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ibt ein „Studenten-Wiki“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wiki.semantic-web-grundlage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teht Interesse an einer Blockveranstaltung „Ontologien und Semantic Web“ nächstes Semester: 22. – 26. Septe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Pfadkonsistenz (P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ur Konsistenz entlang von Pfade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 genügt, Pfade der Länge 2 zu untersu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- und Nacht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+ findet mehr Inkonsistenzen als 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extensionale Repräsentation of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verändert die Konnektivität des Grap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richtete PC, eingeschränkte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2289240" y="2430360"/>
            <a:ext cx="1395360" cy="54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6"/>
          <p:cNvSpPr/>
          <p:nvPr/>
        </p:nvSpPr>
        <p:spPr>
          <a:xfrm flipV="1">
            <a:off x="3699000" y="2332080"/>
            <a:ext cx="804600" cy="60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4486320" y="2332080"/>
            <a:ext cx="971640" cy="279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"/>
          <p:cNvSpPr/>
          <p:nvPr/>
        </p:nvSpPr>
        <p:spPr>
          <a:xfrm flipV="1">
            <a:off x="5473800" y="1987560"/>
            <a:ext cx="696960" cy="60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9"/>
          <p:cNvSpPr/>
          <p:nvPr/>
        </p:nvSpPr>
        <p:spPr>
          <a:xfrm>
            <a:off x="6140520" y="1987560"/>
            <a:ext cx="1212840" cy="326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1954080" y="242892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3400560" y="2433600"/>
            <a:ext cx="51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5133960" y="2092320"/>
            <a:ext cx="51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4272120" y="188424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6019920" y="203832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5"/>
          <p:cNvSpPr/>
          <p:nvPr/>
        </p:nvSpPr>
        <p:spPr>
          <a:xfrm>
            <a:off x="7358040" y="2108160"/>
            <a:ext cx="5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6"/>
          <p:cNvSpPr/>
          <p:nvPr/>
        </p:nvSpPr>
        <p:spPr>
          <a:xfrm flipV="1">
            <a:off x="3668760" y="2642760"/>
            <a:ext cx="1789200" cy="344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7"/>
          <p:cNvSpPr/>
          <p:nvPr/>
        </p:nvSpPr>
        <p:spPr>
          <a:xfrm>
            <a:off x="4503600" y="2840040"/>
            <a:ext cx="6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k-Konsist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te Belegung von (k-1) Variablen kann auf die k-te Variable erweit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rke k-Konsistenz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j-Konsistenz für jedes j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1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2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starke 3-Konsist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Vollständige Konsist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000" y="1267920"/>
            <a:ext cx="867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ke n-Konsistenz eines Constraint Graphen mit n Knot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ke k-Konsistenz eines Constraint Graphen mit n Knoten (k&lt;n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???</a:t>
            </a:r>
            <a:br>
              <a:rPr sz="2400"/>
            </a:br>
            <a:br>
              <a:rPr sz="2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adkonsisten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keine Lös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elle Grap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umartiger Graph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(D)AC ist ausreich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iminiere Knoten (cycle cut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sse Knoten zusa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775480" y="30877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5778360" y="41767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7542360" y="4164120"/>
            <a:ext cx="48564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7532640" y="3100320"/>
            <a:ext cx="484200" cy="4597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6245280" y="3562200"/>
            <a:ext cx="1289160" cy="57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V="1">
            <a:off x="6245280" y="3561840"/>
            <a:ext cx="1272960" cy="592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5987880" y="3562200"/>
            <a:ext cx="0" cy="592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>
            <a:off x="6276960" y="3316320"/>
            <a:ext cx="1257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>
            <a:off x="7777080" y="3579840"/>
            <a:ext cx="0" cy="574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 flipH="1">
            <a:off x="6276600" y="4416480"/>
            <a:ext cx="12574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5610240" y="361152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6448320" y="38466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6724800" y="291780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6669000" y="428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7812000" y="36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7232760" y="365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8034480" y="4481640"/>
            <a:ext cx="9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4932360" y="333864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4932360" y="4457880"/>
            <a:ext cx="9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8032680" y="33782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{1,2,3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Constraintpropagieru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systematische Such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 ineffiz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r Sicherstellung der Konsistenz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vollstän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so: Kombination von Suche (Backtracking) mit Konsistenztechn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ok back (Wiederherstellen nach Konflik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ok ahead (Verhindern von Konflik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4"/>
          <p:cNvSpPr/>
          <p:nvPr/>
        </p:nvSpPr>
        <p:spPr>
          <a:xfrm>
            <a:off x="204804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5"/>
          <p:cNvSpPr/>
          <p:nvPr/>
        </p:nvSpPr>
        <p:spPr>
          <a:xfrm>
            <a:off x="302436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400356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7"/>
          <p:cNvSpPr/>
          <p:nvPr/>
        </p:nvSpPr>
        <p:spPr>
          <a:xfrm>
            <a:off x="4981680" y="5632560"/>
            <a:ext cx="303120" cy="277560"/>
          </a:xfrm>
          <a:prstGeom prst="ellipse">
            <a:avLst/>
          </a:prstGeom>
          <a:solidFill>
            <a:srgbClr val="ff6600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val 8"/>
          <p:cNvSpPr/>
          <p:nvPr/>
        </p:nvSpPr>
        <p:spPr>
          <a:xfrm>
            <a:off x="5961240" y="5632560"/>
            <a:ext cx="30132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9"/>
          <p:cNvSpPr/>
          <p:nvPr/>
        </p:nvSpPr>
        <p:spPr>
          <a:xfrm>
            <a:off x="694044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918560" y="5632560"/>
            <a:ext cx="301680" cy="277560"/>
          </a:xfrm>
          <a:prstGeom prst="ellipse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11"/>
          <p:cNvSpPr/>
          <p:nvPr/>
        </p:nvSpPr>
        <p:spPr>
          <a:xfrm rot="5400000">
            <a:off x="4046400" y="5067360"/>
            <a:ext cx="222120" cy="1987560"/>
          </a:xfrm>
          <a:custGeom>
            <a:avLst/>
            <a:gdLst>
              <a:gd name="textAreaLeft" fmla="*/ 0 w 222120"/>
              <a:gd name="textAreaRight" fmla="*/ 155880 w 222120"/>
              <a:gd name="textAreaTop" fmla="*/ 82800 h 1987560"/>
              <a:gd name="textAreaBottom" fmla="*/ 1904760 h 19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2"/>
          <p:cNvSpPr/>
          <p:nvPr/>
        </p:nvSpPr>
        <p:spPr>
          <a:xfrm rot="5400000">
            <a:off x="6021360" y="5085360"/>
            <a:ext cx="222480" cy="1925640"/>
          </a:xfrm>
          <a:custGeom>
            <a:avLst/>
            <a:gdLst>
              <a:gd name="textAreaLeft" fmla="*/ 0 w 222480"/>
              <a:gd name="textAreaRight" fmla="*/ 156240 w 222480"/>
              <a:gd name="textAreaTop" fmla="*/ 79920 h 1925640"/>
              <a:gd name="textAreaBottom" fmla="*/ 1845720 h 19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13"/>
          <p:cNvSpPr/>
          <p:nvPr/>
        </p:nvSpPr>
        <p:spPr>
          <a:xfrm rot="5400000">
            <a:off x="7507800" y="5561640"/>
            <a:ext cx="206280" cy="938160"/>
          </a:xfrm>
          <a:custGeom>
            <a:avLst/>
            <a:gdLst>
              <a:gd name="textAreaLeft" fmla="*/ 0 w 206280"/>
              <a:gd name="textAreaRight" fmla="*/ 144720 w 206280"/>
              <a:gd name="textAreaTop" fmla="*/ 38880 h 938160"/>
              <a:gd name="textAreaBottom" fmla="*/ 899280 h 93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14"/>
          <p:cNvSpPr/>
          <p:nvPr/>
        </p:nvSpPr>
        <p:spPr>
          <a:xfrm flipV="1" rot="16200000">
            <a:off x="5520240" y="5046840"/>
            <a:ext cx="204840" cy="971640"/>
          </a:xfrm>
          <a:custGeom>
            <a:avLst/>
            <a:gdLst>
              <a:gd name="textAreaLeft" fmla="*/ 0 w 204840"/>
              <a:gd name="textAreaRight" fmla="*/ 143640 w 204840"/>
              <a:gd name="textAreaTop" fmla="*/ 40320 h 971640"/>
              <a:gd name="textAreaBottom" fmla="*/ 931320 h 9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15"/>
          <p:cNvSpPr/>
          <p:nvPr/>
        </p:nvSpPr>
        <p:spPr>
          <a:xfrm flipV="1" rot="16200000">
            <a:off x="6494760" y="5033880"/>
            <a:ext cx="204840" cy="971640"/>
          </a:xfrm>
          <a:custGeom>
            <a:avLst/>
            <a:gdLst>
              <a:gd name="textAreaLeft" fmla="*/ 0 w 204840"/>
              <a:gd name="textAreaRight" fmla="*/ 143640 w 204840"/>
              <a:gd name="textAreaTop" fmla="*/ 40320 h 971640"/>
              <a:gd name="textAreaBottom" fmla="*/ 931320 h 9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16"/>
          <p:cNvSpPr/>
          <p:nvPr/>
        </p:nvSpPr>
        <p:spPr>
          <a:xfrm flipV="1" rot="16200000">
            <a:off x="3061800" y="4543200"/>
            <a:ext cx="171360" cy="1955880"/>
          </a:xfrm>
          <a:custGeom>
            <a:avLst/>
            <a:gdLst>
              <a:gd name="textAreaLeft" fmla="*/ 0 w 171360"/>
              <a:gd name="textAreaRight" fmla="*/ 120240 w 171360"/>
              <a:gd name="textAreaTop" fmla="*/ 81360 h 1955880"/>
              <a:gd name="textAreaBottom" fmla="*/ 1874520 h 195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7"/>
          <p:cNvSpPr/>
          <p:nvPr/>
        </p:nvSpPr>
        <p:spPr>
          <a:xfrm rot="5400000">
            <a:off x="2554920" y="5566320"/>
            <a:ext cx="206280" cy="938160"/>
          </a:xfrm>
          <a:custGeom>
            <a:avLst/>
            <a:gdLst>
              <a:gd name="textAreaLeft" fmla="*/ 0 w 206280"/>
              <a:gd name="textAreaRight" fmla="*/ 144720 w 206280"/>
              <a:gd name="textAreaTop" fmla="*/ 38880 h 938160"/>
              <a:gd name="textAreaBottom" fmla="*/ 899280 h 93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8"/>
          <p:cNvSpPr/>
          <p:nvPr/>
        </p:nvSpPr>
        <p:spPr>
          <a:xfrm>
            <a:off x="6321600" y="6321600"/>
            <a:ext cx="2212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9"/>
          <p:cNvSpPr/>
          <p:nvPr/>
        </p:nvSpPr>
        <p:spPr>
          <a:xfrm>
            <a:off x="3492360" y="4797360"/>
            <a:ext cx="12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ok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20"/>
          <p:cNvSpPr/>
          <p:nvPr/>
        </p:nvSpPr>
        <p:spPr>
          <a:xfrm>
            <a:off x="3895560" y="5106960"/>
            <a:ext cx="242424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1"/>
          <p:cNvSpPr/>
          <p:nvPr/>
        </p:nvSpPr>
        <p:spPr>
          <a:xfrm>
            <a:off x="6300720" y="6308640"/>
            <a:ext cx="26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beling-Reihenfol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5580000" y="479736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ok a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5140440" y="4861080"/>
            <a:ext cx="0" cy="1641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2"/>
          <p:cNvSpPr/>
          <p:nvPr/>
        </p:nvSpPr>
        <p:spPr>
          <a:xfrm>
            <a:off x="7788240" y="4662360"/>
            <a:ext cx="863640" cy="1608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3"/>
          <p:cNvSpPr/>
          <p:nvPr/>
        </p:nvSpPr>
        <p:spPr>
          <a:xfrm>
            <a:off x="7210440" y="5697360"/>
            <a:ext cx="455760" cy="57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4"/>
          <p:cNvSpPr/>
          <p:nvPr/>
        </p:nvSpPr>
        <p:spPr>
          <a:xfrm flipV="1">
            <a:off x="6939000" y="4316400"/>
            <a:ext cx="1000080" cy="1906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Look Back Method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tes Back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zprüfung der instanziierten Variabl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ackju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tracking zu der Variable mit dem Konflik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ackchecki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back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et redundante Überprüfungen von                          Constraints durch das Speichern von                                            erfolgreichen und fehlgeschlagenen                         Wertzu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8"/>
          <p:cNvSpPr/>
          <p:nvPr/>
        </p:nvSpPr>
        <p:spPr>
          <a:xfrm>
            <a:off x="8315280" y="412272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9"/>
          <p:cNvSpPr/>
          <p:nvPr/>
        </p:nvSpPr>
        <p:spPr>
          <a:xfrm>
            <a:off x="8315280" y="365904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8315280" y="319716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11"/>
          <p:cNvSpPr/>
          <p:nvPr/>
        </p:nvSpPr>
        <p:spPr>
          <a:xfrm>
            <a:off x="8209080" y="3317760"/>
            <a:ext cx="68040" cy="885960"/>
          </a:xfrm>
          <a:custGeom>
            <a:avLst/>
            <a:gdLst>
              <a:gd name="textAreaLeft" fmla="*/ 19800 w 68040"/>
              <a:gd name="textAreaRight" fmla="*/ 68400 w 68040"/>
              <a:gd name="textAreaTop" fmla="*/ 36720 h 885960"/>
              <a:gd name="textAreaBottom" fmla="*/ 849240 h 8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2"/>
          <p:cNvSpPr/>
          <p:nvPr/>
        </p:nvSpPr>
        <p:spPr>
          <a:xfrm flipV="1">
            <a:off x="8397720" y="3398760"/>
            <a:ext cx="0" cy="246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13"/>
          <p:cNvSpPr/>
          <p:nvPr/>
        </p:nvSpPr>
        <p:spPr>
          <a:xfrm>
            <a:off x="7520040" y="2790720"/>
            <a:ext cx="698400" cy="460440"/>
          </a:xfrm>
          <a:prstGeom prst="lightningBol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6659640" y="247968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ring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erh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7572240" y="617688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7400880" y="510228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7104240" y="5637240"/>
            <a:ext cx="1825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6808680" y="617688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9"/>
          <p:cNvSpPr/>
          <p:nvPr/>
        </p:nvSpPr>
        <p:spPr>
          <a:xfrm>
            <a:off x="7194600" y="479592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0"/>
          <p:cNvSpPr/>
          <p:nvPr/>
        </p:nvSpPr>
        <p:spPr>
          <a:xfrm>
            <a:off x="6564240" y="593244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7597800" y="5869080"/>
            <a:ext cx="2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22"/>
          <p:cNvSpPr/>
          <p:nvPr/>
        </p:nvSpPr>
        <p:spPr>
          <a:xfrm>
            <a:off x="7696080" y="456876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7988400" y="5102280"/>
            <a:ext cx="1807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24"/>
          <p:cNvSpPr/>
          <p:nvPr/>
        </p:nvSpPr>
        <p:spPr>
          <a:xfrm>
            <a:off x="8547120" y="6176880"/>
            <a:ext cx="18252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8650440" y="59072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26"/>
          <p:cNvSpPr/>
          <p:nvPr/>
        </p:nvSpPr>
        <p:spPr>
          <a:xfrm rot="1761000">
            <a:off x="6714720" y="4687560"/>
            <a:ext cx="247680" cy="1554120"/>
          </a:xfrm>
          <a:custGeom>
            <a:avLst/>
            <a:gdLst>
              <a:gd name="textAreaLeft" fmla="*/ 158400 w 247680"/>
              <a:gd name="textAreaRight" fmla="*/ 248040 w 247680"/>
              <a:gd name="textAreaTop" fmla="*/ 40320 h 1554120"/>
              <a:gd name="textAreaBottom" fmla="*/ 1513800 h 155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5857920" y="5340240"/>
            <a:ext cx="100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nfli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8"/>
          <p:cNvSpPr/>
          <p:nvPr/>
        </p:nvSpPr>
        <p:spPr>
          <a:xfrm>
            <a:off x="6877080" y="6381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ch Konfli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29"/>
          <p:cNvSpPr/>
          <p:nvPr/>
        </p:nvSpPr>
        <p:spPr>
          <a:xfrm>
            <a:off x="6986520" y="603252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7062840" y="589284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7473960" y="603900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7350120" y="588636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7308720" y="542304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7550280" y="4959360"/>
            <a:ext cx="680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7613640" y="4819680"/>
            <a:ext cx="6984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8458200" y="59500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8375760" y="577836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8264520" y="5568840"/>
            <a:ext cx="698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8177040" y="53974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7942320" y="4971960"/>
            <a:ext cx="68040" cy="748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7854840" y="4819680"/>
            <a:ext cx="68400" cy="745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42"/>
          <p:cNvSpPr/>
          <p:nvPr/>
        </p:nvSpPr>
        <p:spPr>
          <a:xfrm>
            <a:off x="7027920" y="608976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43"/>
          <p:cNvSpPr/>
          <p:nvPr/>
        </p:nvSpPr>
        <p:spPr>
          <a:xfrm>
            <a:off x="7110360" y="593712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44"/>
          <p:cNvSpPr/>
          <p:nvPr/>
        </p:nvSpPr>
        <p:spPr>
          <a:xfrm>
            <a:off x="7367760" y="547380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45"/>
          <p:cNvSpPr/>
          <p:nvPr/>
        </p:nvSpPr>
        <p:spPr>
          <a:xfrm>
            <a:off x="7602480" y="501012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46"/>
          <p:cNvSpPr/>
          <p:nvPr/>
        </p:nvSpPr>
        <p:spPr>
          <a:xfrm>
            <a:off x="7678800" y="488304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47"/>
          <p:cNvSpPr/>
          <p:nvPr/>
        </p:nvSpPr>
        <p:spPr>
          <a:xfrm flipH="1">
            <a:off x="7806960" y="488952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48"/>
          <p:cNvSpPr/>
          <p:nvPr/>
        </p:nvSpPr>
        <p:spPr>
          <a:xfrm flipH="1">
            <a:off x="7895880" y="5035680"/>
            <a:ext cx="5724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8129160" y="546084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50"/>
          <p:cNvSpPr/>
          <p:nvPr/>
        </p:nvSpPr>
        <p:spPr>
          <a:xfrm flipH="1">
            <a:off x="8201160" y="5632560"/>
            <a:ext cx="568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1"/>
          <p:cNvSpPr/>
          <p:nvPr/>
        </p:nvSpPr>
        <p:spPr>
          <a:xfrm flipH="1">
            <a:off x="8322840" y="582948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52"/>
          <p:cNvSpPr/>
          <p:nvPr/>
        </p:nvSpPr>
        <p:spPr>
          <a:xfrm flipH="1">
            <a:off x="8410320" y="6006960"/>
            <a:ext cx="58680" cy="63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53"/>
          <p:cNvSpPr/>
          <p:nvPr/>
        </p:nvSpPr>
        <p:spPr>
          <a:xfrm flipH="1">
            <a:off x="7303680" y="594360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54"/>
          <p:cNvSpPr/>
          <p:nvPr/>
        </p:nvSpPr>
        <p:spPr>
          <a:xfrm flipH="1">
            <a:off x="7414920" y="6108840"/>
            <a:ext cx="58680" cy="63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ok Ahead Method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meide zukünftige Konflikte durch Konsistenz- überprüfung mit noch nicht instanziierten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ward checking (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C to mit dem direkten Nachb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ilweiser (partial) look ahead (P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ollständiger) look ahead (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ntenkonsis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adkonsist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5"/>
          <p:cNvSpPr/>
          <p:nvPr/>
        </p:nvSpPr>
        <p:spPr>
          <a:xfrm>
            <a:off x="7394400" y="3038400"/>
            <a:ext cx="181080" cy="196920"/>
          </a:xfrm>
          <a:prstGeom prst="ellipse">
            <a:avLst/>
          </a:prstGeom>
          <a:solidFill>
            <a:srgbClr val="ff66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6"/>
          <p:cNvSpPr/>
          <p:nvPr/>
        </p:nvSpPr>
        <p:spPr>
          <a:xfrm>
            <a:off x="7394400" y="37368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7"/>
          <p:cNvSpPr/>
          <p:nvPr/>
        </p:nvSpPr>
        <p:spPr>
          <a:xfrm>
            <a:off x="7299360" y="3137040"/>
            <a:ext cx="68400" cy="704880"/>
          </a:xfrm>
          <a:custGeom>
            <a:avLst/>
            <a:gdLst>
              <a:gd name="textAreaLeft" fmla="*/ 20160 w 68400"/>
              <a:gd name="textAreaRight" fmla="*/ 68760 w 6840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8"/>
          <p:cNvSpPr/>
          <p:nvPr/>
        </p:nvSpPr>
        <p:spPr>
          <a:xfrm>
            <a:off x="7392960" y="44370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9"/>
          <p:cNvSpPr/>
          <p:nvPr/>
        </p:nvSpPr>
        <p:spPr>
          <a:xfrm>
            <a:off x="7392960" y="5137200"/>
            <a:ext cx="181080" cy="1969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7392960" y="5837400"/>
            <a:ext cx="181080" cy="1965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11"/>
          <p:cNvSpPr/>
          <p:nvPr/>
        </p:nvSpPr>
        <p:spPr>
          <a:xfrm>
            <a:off x="7304040" y="3879720"/>
            <a:ext cx="68400" cy="704880"/>
          </a:xfrm>
          <a:custGeom>
            <a:avLst/>
            <a:gdLst>
              <a:gd name="textAreaLeft" fmla="*/ 20160 w 68400"/>
              <a:gd name="textAreaRight" fmla="*/ 68760 w 6840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12"/>
          <p:cNvSpPr/>
          <p:nvPr/>
        </p:nvSpPr>
        <p:spPr>
          <a:xfrm flipH="1">
            <a:off x="7580160" y="3129120"/>
            <a:ext cx="162000" cy="1393560"/>
          </a:xfrm>
          <a:custGeom>
            <a:avLst/>
            <a:gdLst>
              <a:gd name="textAreaLeft" fmla="*/ 47880 w 162000"/>
              <a:gd name="textAreaRight" fmla="*/ 162720 w 162000"/>
              <a:gd name="textAreaTop" fmla="*/ 57960 h 1393560"/>
              <a:gd name="textAreaBottom" fmla="*/ 1335600 h 139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13"/>
          <p:cNvSpPr/>
          <p:nvPr/>
        </p:nvSpPr>
        <p:spPr>
          <a:xfrm flipH="1">
            <a:off x="7615080" y="4543560"/>
            <a:ext cx="162000" cy="1393560"/>
          </a:xfrm>
          <a:custGeom>
            <a:avLst/>
            <a:gdLst>
              <a:gd name="textAreaLeft" fmla="*/ 47880 w 162000"/>
              <a:gd name="textAreaRight" fmla="*/ 162720 w 162000"/>
              <a:gd name="textAreaTop" fmla="*/ 57960 h 1393560"/>
              <a:gd name="textAreaBottom" fmla="*/ 1335600 h 139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utoShape 14"/>
          <p:cNvSpPr/>
          <p:nvPr/>
        </p:nvSpPr>
        <p:spPr>
          <a:xfrm>
            <a:off x="7291440" y="5265720"/>
            <a:ext cx="69840" cy="704880"/>
          </a:xfrm>
          <a:custGeom>
            <a:avLst/>
            <a:gdLst>
              <a:gd name="textAreaLeft" fmla="*/ 20520 w 69840"/>
              <a:gd name="textAreaRight" fmla="*/ 69840 w 69840"/>
              <a:gd name="textAreaTop" fmla="*/ 29160 h 704880"/>
              <a:gd name="textAreaBottom" fmla="*/ 675720 h 70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5"/>
          <p:cNvSpPr/>
          <p:nvPr/>
        </p:nvSpPr>
        <p:spPr>
          <a:xfrm>
            <a:off x="5487840" y="2890800"/>
            <a:ext cx="1729080" cy="55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6"/>
          <p:cNvSpPr/>
          <p:nvPr/>
        </p:nvSpPr>
        <p:spPr>
          <a:xfrm>
            <a:off x="5502240" y="2955960"/>
            <a:ext cx="2168640" cy="12477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17"/>
          <p:cNvSpPr/>
          <p:nvPr/>
        </p:nvSpPr>
        <p:spPr>
          <a:xfrm>
            <a:off x="8353440" y="3186000"/>
            <a:ext cx="0" cy="2036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8"/>
          <p:cNvSpPr/>
          <p:nvPr/>
        </p:nvSpPr>
        <p:spPr>
          <a:xfrm rot="5400000">
            <a:off x="7233840" y="4390920"/>
            <a:ext cx="26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beling-Reihenfol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19"/>
          <p:cNvSpPr/>
          <p:nvPr/>
        </p:nvSpPr>
        <p:spPr>
          <a:xfrm flipH="1">
            <a:off x="7594560" y="2478240"/>
            <a:ext cx="728640" cy="475920"/>
          </a:xfrm>
          <a:prstGeom prst="lightningBol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0"/>
          <p:cNvSpPr/>
          <p:nvPr/>
        </p:nvSpPr>
        <p:spPr>
          <a:xfrm>
            <a:off x="6899400" y="2151000"/>
            <a:ext cx="16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tanziierte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ok Ahead - 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X = Y, X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, Y &gt; Z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ieren &amp; Testen - 7 Schrit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Backtracking - 5 Schrit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Propagierung - 2 Schri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619280" y="2997360"/>
          <a:ext cx="5199120" cy="134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997360"/>
                    <a:ext cx="519912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wendungsfelder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6840" y="1371600"/>
            <a:ext cx="81788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le Arten von schwierigen kombina-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orischen Probl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lekularbi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quenzierung von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tein-Struktur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teraktive Graf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ultimodale Ausgabe, z.B. im DynAMITE-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twork-Management und -K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Bild 5" descr="1GZX_Haemoglobin.png"/>
          <p:cNvPicPr/>
          <p:nvPr/>
        </p:nvPicPr>
        <p:blipFill>
          <a:blip r:embed="rId1"/>
          <a:stretch/>
        </p:blipFill>
        <p:spPr>
          <a:xfrm>
            <a:off x="4800600" y="34290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63" name="Bild 6" descr="Peridinin-chlorophyll-solenoid-1ppr.png"/>
          <p:cNvPicPr/>
          <p:nvPr/>
        </p:nvPicPr>
        <p:blipFill>
          <a:blip r:embed="rId2"/>
          <a:stretch/>
        </p:blipFill>
        <p:spPr>
          <a:xfrm>
            <a:off x="5486400" y="1085760"/>
            <a:ext cx="3429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Job Shop Schedu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79280" y="1125360"/>
            <a:ext cx="8785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gabe bei Schedu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weisung von Aktivitäten an Ressourcen zu einer 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P erlaubt die Modellierung auf „natürliche“ W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benbedingungen werden abgedeck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tivitäten werden mittels Variablen beschrie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fangs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sourcen (wenn nöt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uer (falls vari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s beschreiben Bezieh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 einzelnen Aktivitäten (Vorrang, Reihenfolge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ischen Aktivitäten und Ressourcen (Kapazität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ösungstechniken: standard Constraint-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mporale Constra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6840" y="1371600"/>
            <a:ext cx="8178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rmin-Constraints (due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rtigstellung vor einem festgelegtem Zeitpu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(A) + dauer(A)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≤ ende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Vorrang-Constraints (precedence constra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ivität A muß einer andere Aktivität B vorang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aus technologischen Grün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tart(A) + dauer(A) ≤ start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Zeitfenster (time 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ivität muß während eines Zeitfensters stattfi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tart(A) in MinStart...Max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Einricht-Zeiten (set-up times)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t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aint programming represents one of the closest approaches computer science has yet made to the Holy Grail of programming: the user states the problem, the computer solves i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gene C. Freuder, Constraints, April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Bild 5" descr=""/>
          <p:cNvPicPr/>
          <p:nvPr/>
        </p:nvPicPr>
        <p:blipFill>
          <a:blip r:embed="rId1"/>
          <a:stretch/>
        </p:blipFill>
        <p:spPr>
          <a:xfrm>
            <a:off x="0" y="3695760"/>
            <a:ext cx="91440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ssourcen Constra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79280" y="1371240"/>
            <a:ext cx="896472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sjunktive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source ist auf eine gleichzeitige Aktivität beschrä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rt(A)+dauer(A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≤start(B) oder start(B)+dauer(B)≤start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global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erialized([start(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)], [dauer(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Kapazitäts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Ressource kann Aktivitäten mit einem gegebenen Limit parallel bearb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eckt auch Disjunktive Constraints ab (Kapazität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cumulative([start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[dauer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[verbrauch(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)], lim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rick: Ist die Ressource an der Aktivität nicht beteiligt, dann ist ihr Verbrauch gleich N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wurde verschwiege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79280" y="1197000"/>
            <a:ext cx="8964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chniken der lokalen S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-systematisches Generieren und Te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l-climbing, min-conflicts, random-walk, tabu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e mit zu vielen Constraints (over-constra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s ist zu tun, wenn die Constraintmenge unerfüllbar 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schwächen des Problems (weakening, PC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enden von Präferenzen (Hierarchien von Constrai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ptim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che nach optimalen Lösungen, gemäß einer Ziel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anch und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lz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thoden der numerischen Mathematik (Newton, Tay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wurde gesag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79280" y="1197000"/>
            <a:ext cx="8964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nstraint Programmier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mt dem Heiligen Gral der Informatik na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relevant bei der Lösung interessanter Probl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ellierung und systematische Su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schöpfende Suche ist zu aufwen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besseru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istenztechniken (look ah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hindere Konflikte in der Zukun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ken zur Vermeidung von Redundanzen (look 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endet Informationen über vorangegangene Schri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Quellen und Literatur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371240"/>
            <a:ext cx="84582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man B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k. On-Line Guide to Constraint Programming,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ea typeface="Arial"/>
                <a:hlinkClick r:id="rId1"/>
              </a:rPr>
              <a:t>http://kti.mff.cuni.cz/~bartak/constrai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(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englis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ussell und Norvig: Artificial Intelligence: A Modern Approach, Prentice Hall, 1995, 2te Auflage, Kapitel 5 (onlin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man B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ák. Vortrag CPDC99. (englis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-Queens v1.0, ©1996 CyLog Software,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Arial"/>
                <a:ea typeface="Arial"/>
                <a:hlinkClick r:id="rId2"/>
              </a:rPr>
              <a:t>http://www.cylog.org/games_6.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sind Constraint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" y="13712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constrain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engl.) = Beschränkung, Einschränk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hier: Aussage darüber, welche Lösungen eines Problems (ausgedrückt durch Belegung von Variablen) verboten/erlaubt s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Also: constraints schränken die zulässigen Lösungen 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verschiedene Beschreibungsar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xtensional (durch Aufzählung)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X,Y,Z) ∈ {(1,0,0),(0,1,0),(0,0,1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tensional (durch Formeln, die erfüllt sein müssen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X+Y+Z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317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onstraint Satisfaction Probl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000" y="1267920"/>
            <a:ext cx="81788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P = Ein Programm erstellt ein CSP zu einem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CSP besteht a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iner endlichen Menge von Variablen X={x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Domänen 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...,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dieser Variablen                                          (endliche Mengen möglicher Wer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iner Menge vo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::{1,2}, Y::{1,2}, Z::{1,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 = Y, X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Z, Y &gt;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 eines CS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Zuweisung eines Wertes an jede Variable aus ihrer Domäne Beisp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=2, Y=2, Z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as ist C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4920" y="1052280"/>
            <a:ext cx="8064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e Methode, um kombinatorische Probleme zu lö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SEND+MORE=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enge von Variablen {S,E,N,D,M,O,R,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omänen (Wertebereiche) für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E,N,D,O,R,Y::0..9,    S,M::1.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 (Einschränkungsbedingu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chränken den Wertebereich von Variablen 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124000" y="4653000"/>
          <a:ext cx="5040360" cy="1114560"/>
        </p:xfrm>
        <a:graphic>
          <a:graphicData uri="http://schemas.openxmlformats.org/drawingml/2006/table">
            <a:tbl>
              <a:tblPr/>
              <a:tblGrid>
                <a:gridCol w="1270080"/>
                <a:gridCol w="1106640"/>
                <a:gridCol w="1008000"/>
                <a:gridCol w="863640"/>
                <a:gridCol w="79200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0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 Box 103"/>
          <p:cNvSpPr/>
          <p:nvPr/>
        </p:nvSpPr>
        <p:spPr>
          <a:xfrm>
            <a:off x="539640" y="5805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ufgabe: Finde einen Wert für jede Variable, so dass alle Constraints erfüllt s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577800" y="141300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auf „natürliche“ We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glichen mit „normalen“ Programmiersprach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end+More=Money in Prolo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P und der ''Heilige Gral"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2707920"/>
            <a:ext cx="40129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_more_money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S,E,N,D,M,O,R,Y] :: [0..9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71640" y="4005360"/>
          <a:ext cx="4680000" cy="1692000"/>
        </p:xfrm>
        <a:graphic>
          <a:graphicData uri="http://schemas.openxmlformats.org/drawingml/2006/table">
            <a:tbl>
              <a:tblPr/>
              <a:tblGrid>
                <a:gridCol w="1179360"/>
                <a:gridCol w="1027080"/>
                <a:gridCol w="936720"/>
                <a:gridCol w="801720"/>
                <a:gridCol w="73512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0000*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0*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*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*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Oval 6"/>
          <p:cNvSpPr/>
          <p:nvPr/>
        </p:nvSpPr>
        <p:spPr>
          <a:xfrm>
            <a:off x="6156360" y="2349360"/>
            <a:ext cx="2808360" cy="1008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ere Variab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Domä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000920" y="7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7164360" y="3573360"/>
            <a:ext cx="17636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3995640" y="2924280"/>
            <a:ext cx="216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CP und der ''Heilige Gral"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4360" y="2708280"/>
            <a:ext cx="824040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nd_more_money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S,E,N,D,M,O,R,Y] :: [0..9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 #\= 0, M #\=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different([S,E,N,D,M,O,R,Y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00*S+100*E+10*N+D + 1000*M+100*O+10*R+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#= 10000*M+1000*O+100*N+10*E+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beling([S,E,N,D,M,O,R,Y]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44040" y="5516640"/>
            <a:ext cx="777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System sucht und findet automatisch eine Lö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z ist eingeb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6156360" y="2349360"/>
            <a:ext cx="2808360" cy="1008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ere Variab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d Domä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7000920" y="7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7164360" y="3573360"/>
            <a:ext cx="1763640" cy="93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6732720" y="4797360"/>
            <a:ext cx="1728720" cy="792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rte Su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1"/>
          <p:cNvSpPr/>
          <p:nvPr/>
        </p:nvSpPr>
        <p:spPr>
          <a:xfrm flipH="1">
            <a:off x="3995640" y="2924280"/>
            <a:ext cx="216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2"/>
          <p:cNvSpPr/>
          <p:nvPr/>
        </p:nvSpPr>
        <p:spPr>
          <a:xfrm flipH="1" flipV="1">
            <a:off x="4211280" y="5084280"/>
            <a:ext cx="2521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4"/>
          <p:cNvSpPr/>
          <p:nvPr/>
        </p:nvSpPr>
        <p:spPr>
          <a:xfrm flipH="1" flipV="1">
            <a:off x="4571640" y="4005360"/>
            <a:ext cx="25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77800" y="141300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auf „natürliche“ We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verglichen mit „normalen“ Programmiersprach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: Send+More=Money in Prolo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: Sudok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Bild 4" descr="sudoku.jpg"/>
          <p:cNvPicPr/>
          <p:nvPr/>
        </p:nvPicPr>
        <p:blipFill>
          <a:blip r:embed="rId1"/>
          <a:stretch/>
        </p:blipFill>
        <p:spPr>
          <a:xfrm>
            <a:off x="2286000" y="1981080"/>
            <a:ext cx="3429000" cy="339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09:29:24Z</dcterms:created>
  <dc:creator>ulla</dc:creator>
  <dc:description/>
  <dc:language>en-US</dc:language>
  <cp:lastModifiedBy>Sebastian Rudolph</cp:lastModifiedBy>
  <cp:lastPrinted>2000-10-25T10:09:24Z</cp:lastPrinted>
  <dcterms:modified xsi:type="dcterms:W3CDTF">2008-05-20T16:14:06Z</dcterms:modified>
  <cp:revision>275</cp:revision>
  <dc:subject/>
  <dc:title>Teil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eml.org/english/staff/homes/ulla/rost.html</vt:lpwstr>
  </property>
  <property fmtid="{D5CDD505-2E9C-101B-9397-08002B2CF9AE}" pid="9" name="LinkColor">
    <vt:r8>16711782</vt:r8>
  </property>
  <property fmtid="{D5CDD505-2E9C-101B-9397-08002B2CF9AE}" pid="10" name="MailAddress">
    <vt:lpwstr>Ursula.Rost@eml.villa-bosch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data\docs\ki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